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8DF-D0C5-4B9A-A1A4-95F4FB57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D1A-25B7-495E-A387-78404F04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DFC-4E85-4190-A230-A6125E55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219-F486-4D42-A938-314A4BE9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E8D9-9369-4287-95BA-AAC020A9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24F-AB80-4614-9DE2-2BDFC1F5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B94C-B534-4786-85A6-6C4EE04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98E0-D8E5-4244-BB69-241E4B8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8751-3823-4EAB-85F6-DDEB403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878C-FE51-4E50-AF1B-9129492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2D34-9545-437D-B6BC-75CA1EF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E36-286E-4ACD-864A-1B296600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C66F-6802-4976-A238-06A4C18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ABCB-516E-465E-96FE-2910861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B09-26B2-44E8-A0DF-E9F5978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E04B-21AA-4E67-9673-1118C0C5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EEF-B82C-4EA6-9D94-4EA50015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F2C-B91D-497D-B56F-2488A25A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385-06E2-4579-B4A4-277138AF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5C0-B900-48EE-A3B4-21F6B8D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5A0-F392-466A-ADA8-32C6325F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21C-12FC-466B-ABA6-B54537CF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459-AE13-42A8-967F-EC5D615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2C3-FEA3-4EA2-9177-6AADA1F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EDA-082C-4983-B080-AE3F808F1E1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C67841C-3F0C-4C1E-9D09-B73443D53C3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6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12F8-7C41-4828-8D12-009D22105D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4E18-C60C-48E5-B6CC-6C3F7EABA6D2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6112F922-4A37-4B6C-9C53-D88209676293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69CC-6CA2-469C-9CFE-7FC89CD4FF3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05C-568D-45AC-8214-B65EFF0B325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50466-D4B5-47BC-87E8-6B6EBD7DD391}" type="datetime8">
              <a:rPr lang="en-US"/>
              <a:t>07/31/26 17:16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777960"/>
            <a:ext cx="8839080" cy="52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S Gothic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在研究推理过程中，人们发现了一些重要的重言蕴含式，并将它们作为推理定律，在推理过程中可直接引用。常用的推理定律有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附加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        A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 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化简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A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假言推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    (A→B)∧A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拒取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        (A→B)∧┐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析取三段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(A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∧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假言三段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(A→B)∧(B→C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等价三段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(A↔B)∧(B↔C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↔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构造性二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(A→B)∧(C→D)∧(A∨C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∨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构造性二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特殊形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:  (A→B)∧(┐A→B)∧(A∨┐A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破坏性二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     (A→B)∧(C→D)∧(┐B∨┐D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∨┐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1159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推理定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94D-6AC5-44FE-AC16-25DFD9D97B3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13EA2-09C2-4638-B36E-232A87DD3264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66528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S PGothic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此外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§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给出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个等值式中的每一个都派生出两条推理定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比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┑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产生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┑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┑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还有一些</a:t>
            </a:r>
            <a:r>
              <a:rPr b="1" lang="zh-CN" sz="2200" spc="-1" strike="noStrike">
                <a:solidFill>
                  <a:srgbClr val="ff0000"/>
                </a:solidFill>
                <a:latin typeface="MS PGothic"/>
              </a:rPr>
              <a:t>等值式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MS PGothic"/>
              </a:rPr>
              <a:t>重言蕴含式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可在推理中引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200" spc="-1" strike="noStrike">
                <a:solidFill>
                  <a:srgbClr val="000000"/>
                </a:solidFill>
                <a:latin typeface="MS PGothic"/>
              </a:rPr>
              <a:t>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∧B)∨(A∧┐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→B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∧┐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→(B→C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∧B) →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↔B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∧B)∨(┐A∧┐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↔B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↔┐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→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→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→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→(B∨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→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→(B∧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E09-FD8A-4103-A7D3-49F2EBD78A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DD327-02E8-4D18-BCE7-3BE7E0CE18E7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219320"/>
            <a:ext cx="85075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是一个描述推理过程的命题公式序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其中的每个公式或者是已知前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或者是由某些前提应用推理规则得到的结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前已述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可以用真值表法、等值演算法和主析取范式法来判断推理是否正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但当推理中包含的命题变项较多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这些方法的演算量很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因而需要对推理进行严谨的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证明应在推理系统中进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-144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§3.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自然推理系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8D8-DA93-494F-BD0A-E5490413E77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542D4-B96F-4767-8C6A-B75A5597703C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260280"/>
            <a:ext cx="2428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形式系统 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90972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3.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一个形式系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由下面四个部分组成：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非空的字母表集，记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(I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2)A(I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符号构造的合式公式集，记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E(I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3) E(I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一些特殊的公式组成的公理集，记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I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推理规则集，记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R(I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样可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记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元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&lt;A(I),E(I),A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I),R(I)&gt;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&lt;A(I),E(I)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形式语言系统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,&lt;A</a:t>
            </a:r>
            <a:r>
              <a:rPr b="1" lang="zh-CN" sz="22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(I),R(I)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形式演算系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形式系统一般分为两类：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一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自然推理系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它的特点是从任意给定的前提出发，应用系统中的推理规则进行推理演算，得到的最后命题公式是推理的结论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另外的则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公理推理系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它只能从若干给定的公理出发，应用系统的推理规则进行推理演算。得到的结论是系统中的重言式，称为系统中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B9F-9517-4A79-BE1D-55F4E88354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4D273-2D8A-41EA-AB75-1B9878F0B98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765000"/>
            <a:ext cx="84358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MS Gothic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</a:rPr>
              <a:t>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3.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</a:rPr>
              <a:t>自然推理系统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由以下三部分要素组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1.  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</a:rPr>
              <a:t>字母表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命题变项符号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p, q, r, …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联结词符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→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逗号与括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 (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2.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合式公式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合式公式的定义见定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.6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3.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推理规则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  <a:ea typeface="宋体"/>
              </a:rPr>
              <a:t>前提引入规则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在证明的任何步骤上都可引入前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(2)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  <a:ea typeface="宋体"/>
              </a:rPr>
              <a:t>结论引入规则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在证明的任何步骤上所得到的结论都可做为后续证明的前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(3)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MS Gothic"/>
                <a:ea typeface="宋体"/>
              </a:rPr>
              <a:t>置换规则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在证明的任何步骤上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  <a:ea typeface="宋体"/>
              </a:rPr>
              <a:t>命题公式中的子公式都可以用与之等值的公式置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1440" y="188640"/>
            <a:ext cx="43372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自然推理系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2F0-0366-4930-BEDE-34F35B1046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D1999-D5FA-4ECD-BB40-470100231B90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25923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推理规则</a:t>
            </a:r>
            <a:endParaRPr b="1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1253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假言推理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→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A__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73040" y="1116000"/>
            <a:ext cx="1362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化简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A∧B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1720" y="1125360"/>
            <a:ext cx="15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拒绝式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→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┐B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125360"/>
            <a:ext cx="174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附加规则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A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∨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781360"/>
            <a:ext cx="25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(8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假言三段论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→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B→C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→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781360"/>
            <a:ext cx="2808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(9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析取三段论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∨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_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┐B _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0800" y="2771640"/>
            <a:ext cx="346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构造性二难推理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→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C→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A∨C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B∨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4565520"/>
            <a:ext cx="244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(1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合取引入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__B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∧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548240"/>
            <a:ext cx="338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破坏性二难推理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→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C→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_┐B∨┐D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∴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∨┐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47F-6C0E-4DD3-BE06-6B6B1B4D79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21931-747B-4338-BCD4-072E27A106F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933800" y="4724280"/>
            <a:ext cx="179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⑤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⑥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q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⑦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⑧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720"/>
            <a:ext cx="770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前提引入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结论引入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置换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假言推理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附加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化简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拒绝式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假言三段论规则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析取三段论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构造性二难推理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破坏性二难推理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合取引入规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927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3.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在自然推理系统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中构造下面推理的证明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前提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: p∨q,q→r,p→s,┐s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: r∧(p∨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62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q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89320" y="46879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r∧(p∨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628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14960" y="162864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p∨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62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p→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39304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p∨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41840" y="38955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87640" y="4255920"/>
            <a:ext cx="1655640" cy="503280"/>
            <a:chOff x="2987640" y="4255920"/>
            <a:chExt cx="1655640" cy="503280"/>
          </a:xfrm>
        </p:grpSpPr>
        <p:sp>
          <p:nvSpPr>
            <p:cNvPr id="165" name=""/>
            <p:cNvSpPr/>
            <p:nvPr/>
          </p:nvSpPr>
          <p:spPr>
            <a:xfrm>
              <a:off x="3708360" y="4543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87640" y="45435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87640" y="42559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3280" y="42559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635280" y="1989000"/>
            <a:ext cx="1081080" cy="432000"/>
            <a:chOff x="3635280" y="1989000"/>
            <a:chExt cx="1081080" cy="432000"/>
          </a:xfrm>
        </p:grpSpPr>
        <p:sp>
          <p:nvSpPr>
            <p:cNvPr id="170" name=""/>
            <p:cNvSpPr/>
            <p:nvPr/>
          </p:nvSpPr>
          <p:spPr>
            <a:xfrm>
              <a:off x="3635280" y="198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16360" y="198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22050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40360" y="2205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24360" y="2349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140360" y="1989000"/>
            <a:ext cx="1439640" cy="1224000"/>
            <a:chOff x="4140360" y="1989000"/>
            <a:chExt cx="1439640" cy="1224000"/>
          </a:xfrm>
        </p:grpSpPr>
        <p:grpSp>
          <p:nvGrpSpPr>
            <p:cNvPr id="176" name=""/>
            <p:cNvGrpSpPr/>
            <p:nvPr/>
          </p:nvGrpSpPr>
          <p:grpSpPr>
            <a:xfrm>
              <a:off x="4140360" y="1989000"/>
              <a:ext cx="1439640" cy="1008360"/>
              <a:chOff x="4140360" y="1989000"/>
              <a:chExt cx="1439640" cy="1008360"/>
            </a:xfrm>
          </p:grpSpPr>
          <p:sp>
            <p:nvSpPr>
              <p:cNvPr id="177" name=""/>
              <p:cNvSpPr/>
              <p:nvPr/>
            </p:nvSpPr>
            <p:spPr>
              <a:xfrm>
                <a:off x="4140360" y="2781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80000" y="198900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299736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4716360" y="2997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73080" y="31035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484360" y="1989000"/>
            <a:ext cx="2232000" cy="2014560"/>
            <a:chOff x="2484360" y="1989000"/>
            <a:chExt cx="2232000" cy="2014560"/>
          </a:xfrm>
        </p:grpSpPr>
        <p:sp>
          <p:nvSpPr>
            <p:cNvPr id="183" name=""/>
            <p:cNvSpPr/>
            <p:nvPr/>
          </p:nvSpPr>
          <p:spPr>
            <a:xfrm>
              <a:off x="2484360" y="198900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6360" y="3500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84360" y="371628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87640" y="37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14280" y="4437000"/>
            <a:ext cx="2025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证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p→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s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p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q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12520" y="422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合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84680" y="3357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假言推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880" y="1916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拒取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2708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析取三段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4437000"/>
            <a:ext cx="2519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提引入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拒取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724280"/>
            <a:ext cx="2160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③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析取三段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⑤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假言推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⑦④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合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419-6314-4B74-8669-E658034CD12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2D895-33F7-4B17-A81B-710882629A5B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907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前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q, r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∨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q, r→s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结论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 p→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720"/>
            <a:ext cx="770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前提引入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结论引入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置换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假言推理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附加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化简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拒绝式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假言三段论规则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析取三段论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构造性二难推理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破坏性二难推理规则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合取引入规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640" y="4221000"/>
            <a:ext cx="20527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证明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④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4581360"/>
            <a:ext cx="194472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⑥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→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⑦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8240" y="321300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p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568680" y="3573360"/>
            <a:ext cx="1655640" cy="503280"/>
            <a:chOff x="3568680" y="3573360"/>
            <a:chExt cx="1655640" cy="503280"/>
          </a:xfrm>
        </p:grpSpPr>
        <p:sp>
          <p:nvSpPr>
            <p:cNvPr id="200" name=""/>
            <p:cNvSpPr/>
            <p:nvPr/>
          </p:nvSpPr>
          <p:spPr>
            <a:xfrm>
              <a:off x="4289400" y="3861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68680" y="3861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8680" y="3573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24320" y="3573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989520" y="35654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假言三段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1120" y="1628640"/>
            <a:ext cx="8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p∨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62920" y="16286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r∨┐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30440" y="16286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r→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37680" y="397044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p→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47840" y="32130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r→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8320" y="242100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p→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99200" y="242100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q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195640" y="2781360"/>
            <a:ext cx="1655640" cy="503280"/>
            <a:chOff x="2195640" y="2781360"/>
            <a:chExt cx="1655640" cy="503280"/>
          </a:xfrm>
        </p:grpSpPr>
        <p:sp>
          <p:nvSpPr>
            <p:cNvPr id="215" name=""/>
            <p:cNvSpPr/>
            <p:nvPr/>
          </p:nvSpPr>
          <p:spPr>
            <a:xfrm>
              <a:off x="349236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95640" y="306864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9564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1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192760" y="2060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置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2800" y="2060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置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16120" y="2741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假言三段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4221000"/>
            <a:ext cx="2087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置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9080" y="4581360"/>
            <a:ext cx="30240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假言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假言三段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567-1BE8-4D41-9B18-F54545C98FA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9C5E6-8033-4B74-8688-C37CF57F1C8A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920" y="4292640"/>
            <a:ext cx="216036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证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④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(q∨r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51840" y="190440"/>
            <a:ext cx="45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自然推理系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构造下面推理的证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836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若数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实数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则它不是有理数就是无理数。若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能表示成分数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则它不是有理数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实数且它不能表示成分数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所以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无理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522440"/>
            <a:ext cx="8532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:  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实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q:  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有理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r:  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无理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 s:  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能表示成分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p→(q∨r),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→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,   p∧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3280" y="4676760"/>
            <a:ext cx="208944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∨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⑥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→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⑦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⑧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60920" y="24210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p→(q∨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6840" y="242100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→ ┑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2440" y="2435400"/>
            <a:ext cx="10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∧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85800" y="46879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02120" y="3860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┑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72360" y="3068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400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24160" y="3860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q∨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492360" y="4221000"/>
            <a:ext cx="1656000" cy="576360"/>
            <a:chOff x="3492360" y="4221000"/>
            <a:chExt cx="1656000" cy="576360"/>
          </a:xfrm>
        </p:grpSpPr>
        <p:sp>
          <p:nvSpPr>
            <p:cNvPr id="238" name=""/>
            <p:cNvSpPr/>
            <p:nvPr/>
          </p:nvSpPr>
          <p:spPr>
            <a:xfrm>
              <a:off x="3492360" y="4221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48360" y="4221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92360" y="450864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27640" y="4508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56120" y="414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析取三段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356000" y="2708280"/>
            <a:ext cx="1295640" cy="1225440"/>
            <a:chOff x="4356000" y="2708280"/>
            <a:chExt cx="1295640" cy="1225440"/>
          </a:xfrm>
        </p:grpSpPr>
        <p:sp>
          <p:nvSpPr>
            <p:cNvPr id="244" name=""/>
            <p:cNvSpPr/>
            <p:nvPr/>
          </p:nvSpPr>
          <p:spPr>
            <a:xfrm>
              <a:off x="4356000" y="270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51640" y="342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6000" y="3645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8360" y="3645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736160" y="3284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假言推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8000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16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3141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37162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85128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07520" y="288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化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63000" y="33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假言推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4292640"/>
            <a:ext cx="223200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化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化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46920" y="4653000"/>
            <a:ext cx="284616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假言推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假言推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析取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85A-7DEC-4FD5-99CA-13E93DB9CE6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5E85E-60F9-4907-A78B-16815B434D9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4000" y="1197000"/>
            <a:ext cx="5688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附加前提证明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欲证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…∧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→B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997360"/>
            <a:ext cx="70563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 → (A→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 ∨ (┐A∨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┐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∨ ┐ 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∨…∨┐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∨┐A)∨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∧A) ∨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∧A) → 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2205000"/>
            <a:ext cx="5111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改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…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A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270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理如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构造证明的两个技巧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559-EDD8-40F2-8B5D-B79CD87A45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4F988-6376-4831-9536-89E85BC35BB5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523880"/>
            <a:ext cx="8763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第三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命题逻辑的推理理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720" y="4076640"/>
            <a:ext cx="3527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.1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推理的形式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44720" y="4724280"/>
            <a:ext cx="367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.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然推理系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CF2-07AA-4F67-8DA9-A0CA211016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A7D99-575B-49C8-B632-1C06909752E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85392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MS Gothic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3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在自然推理系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中构造下面推理的证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如果小张和小王去看电影，则小李也去看电影。小赵不去看电影或小张去看电影。小王去看电影。所以，当小赵去看电影时，小李必定也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2122560"/>
            <a:ext cx="57070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解：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小张去看电影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小王去看电影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: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小李去看电影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: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小赵去看电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前提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) →r,   ┐s∨p,  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结论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8920" y="4149720"/>
            <a:ext cx="347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证明：用附加前提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∨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④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1640" y="4997520"/>
            <a:ext cx="223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⑥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)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⑦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99200" y="46530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8200" y="24559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) 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03360" y="2421000"/>
            <a:ext cx="8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∨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1440" y="23828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421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04000" y="2852640"/>
            <a:ext cx="1297080" cy="1944720"/>
            <a:chOff x="6804000" y="2852640"/>
            <a:chExt cx="1297080" cy="1944720"/>
          </a:xfrm>
        </p:grpSpPr>
        <p:sp>
          <p:nvSpPr>
            <p:cNvPr id="277" name=""/>
            <p:cNvSpPr/>
            <p:nvPr/>
          </p:nvSpPr>
          <p:spPr>
            <a:xfrm flipV="1">
              <a:off x="7236000" y="458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04000" y="458136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101080" y="285264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804000" y="4292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443640" y="3933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87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580000" y="2781360"/>
            <a:ext cx="936720" cy="431640"/>
            <a:chOff x="5580000" y="2781360"/>
            <a:chExt cx="936720" cy="431640"/>
          </a:xfrm>
        </p:grpSpPr>
        <p:sp>
          <p:nvSpPr>
            <p:cNvPr id="284" name=""/>
            <p:cNvSpPr/>
            <p:nvPr/>
          </p:nvSpPr>
          <p:spPr>
            <a:xfrm>
              <a:off x="5580000" y="278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6720" y="278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80000" y="29973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2000" y="2997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12000" y="2781360"/>
            <a:ext cx="1224000" cy="1224000"/>
            <a:chOff x="6012000" y="2781360"/>
            <a:chExt cx="1224000" cy="1224000"/>
          </a:xfrm>
        </p:grpSpPr>
        <p:sp>
          <p:nvSpPr>
            <p:cNvPr id="289" name=""/>
            <p:cNvSpPr/>
            <p:nvPr/>
          </p:nvSpPr>
          <p:spPr>
            <a:xfrm>
              <a:off x="6012000" y="3500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2000" y="37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6000" y="2781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04000" y="3716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041240" y="424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S Gothic"/>
              </a:rPr>
              <a:t>假言推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83880" y="3379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S Gothic"/>
              </a:rPr>
              <a:t>合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51640" y="27432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MS Gothic"/>
              </a:rPr>
              <a:t>析取三段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4149720"/>
            <a:ext cx="2592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附加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②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析取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0360" y="4997520"/>
            <a:ext cx="266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 ④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合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 ⑥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假言推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34720" y="152280"/>
            <a:ext cx="494964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附加前提证明法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1FC-DE58-4F28-92CF-80343758B6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D94D6-DE15-4F17-BA07-0C834CB33EA0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1001880"/>
            <a:ext cx="4680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前提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) →r,   ┐s∨p,  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结论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2360" y="1989000"/>
            <a:ext cx="23749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证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∨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→ p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)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④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∨┐q∨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3280" y="4292640"/>
            <a:ext cx="2394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⑥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r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⑦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→ r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40520" y="476100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→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42040" y="2062080"/>
            <a:ext cx="18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) 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75360" y="202716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∨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56080" y="19890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29320" y="4005000"/>
            <a:ext cx="1728720" cy="864000"/>
            <a:chOff x="5629320" y="4005000"/>
            <a:chExt cx="1728720" cy="864000"/>
          </a:xfrm>
        </p:grpSpPr>
        <p:sp>
          <p:nvSpPr>
            <p:cNvPr id="307" name=""/>
            <p:cNvSpPr/>
            <p:nvPr/>
          </p:nvSpPr>
          <p:spPr>
            <a:xfrm flipV="1">
              <a:off x="6421680" y="465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29320" y="465300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358040" y="4076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629320" y="40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65568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S Gothic"/>
              </a:rPr>
              <a:t>析取三段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86280" y="11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直接证明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43120" y="364500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→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29320" y="2421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99120" y="37180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→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18400" y="2421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68960" y="2709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∨┐q∨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421320" y="2494080"/>
            <a:ext cx="1296720" cy="1366560"/>
            <a:chOff x="6421320" y="2494080"/>
            <a:chExt cx="1296720" cy="1366560"/>
          </a:xfrm>
        </p:grpSpPr>
        <p:sp>
          <p:nvSpPr>
            <p:cNvPr id="319" name=""/>
            <p:cNvSpPr/>
            <p:nvPr/>
          </p:nvSpPr>
          <p:spPr>
            <a:xfrm>
              <a:off x="6421320" y="249408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21320" y="342900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8040" y="306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4960" y="342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159880" y="278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S Gothic"/>
              </a:rPr>
              <a:t>置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520" y="2421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S Gothic"/>
              </a:rPr>
              <a:t>置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79320" y="422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S Gothic"/>
              </a:rPr>
              <a:t>假言三段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1280" y="1989000"/>
            <a:ext cx="223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13080" y="4278240"/>
            <a:ext cx="30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④ ⑤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析取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⑥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假言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D79-C143-4F69-A4A0-0F696B832F9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9A4FF-A7B9-4DB1-9E30-E4CAA6560FF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9" dur="8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0" dur="8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052640"/>
            <a:ext cx="5184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归谬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欲证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…∧ 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85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理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6000" y="19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将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为附加前提后能得出矛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如得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∧┐A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说明原推理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49440" y="2852640"/>
            <a:ext cx="5327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) →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 ∨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∧┐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8000" y="414972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┐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矛盾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472428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→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重言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38360" y="223560"/>
            <a:ext cx="32940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归谬法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0ED-EB14-4A34-88FE-8E220C709D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6F323-A038-47C7-96DB-07F05AFFB886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8000" y="946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如果小张守第一垒并且小李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投球，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将取胜。或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未取胜，或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成为联赛第一名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没有成为联赛第一名。小张守第一垒。因此，小李没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投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42560" y="117360"/>
            <a:ext cx="467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自然推理系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构造下面推理的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000" y="2128680"/>
            <a:ext cx="8534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解：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小张守第一垒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小李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投球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: A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取胜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: A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队成为联赛第一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) →r,   ┐r∨s,   ┐s,  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结论：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7160" y="310500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) →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61120" y="31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13480" y="310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5164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53120" y="573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765840" y="3465360"/>
            <a:ext cx="935280" cy="432000"/>
            <a:chOff x="6765840" y="3465360"/>
            <a:chExt cx="935280" cy="432000"/>
          </a:xfrm>
        </p:grpSpPr>
        <p:sp>
          <p:nvSpPr>
            <p:cNvPr id="344" name=""/>
            <p:cNvSpPr/>
            <p:nvPr/>
          </p:nvSpPr>
          <p:spPr>
            <a:xfrm>
              <a:off x="6765840" y="3465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01120" y="3465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65840" y="3681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97840" y="368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908760" y="37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45080" y="4473720"/>
            <a:ext cx="9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p∧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16760" y="4834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37160" y="4976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∨┐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16760" y="3465360"/>
            <a:ext cx="2376360" cy="2376720"/>
            <a:chOff x="6116760" y="3465360"/>
            <a:chExt cx="2376360" cy="2376720"/>
          </a:xfrm>
        </p:grpSpPr>
        <p:sp>
          <p:nvSpPr>
            <p:cNvPr id="353" name=""/>
            <p:cNvSpPr/>
            <p:nvPr/>
          </p:nvSpPr>
          <p:spPr>
            <a:xfrm>
              <a:off x="8493120" y="346536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6760" y="533700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6760" y="56260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7840" y="5626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908760" y="57340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108400" y="3537000"/>
            <a:ext cx="2089440" cy="1008000"/>
            <a:chOff x="5108400" y="3537000"/>
            <a:chExt cx="2089440" cy="1008000"/>
          </a:xfrm>
        </p:grpSpPr>
        <p:sp>
          <p:nvSpPr>
            <p:cNvPr id="359" name=""/>
            <p:cNvSpPr/>
            <p:nvPr/>
          </p:nvSpPr>
          <p:spPr>
            <a:xfrm>
              <a:off x="7197840" y="4113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8400" y="4329000"/>
              <a:ext cx="208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6760" y="432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08400" y="3537000"/>
              <a:ext cx="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84360" y="3789360"/>
            <a:ext cx="26272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证明：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用归谬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）直接证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262560" y="6093000"/>
            <a:ext cx="935280" cy="431280"/>
            <a:chOff x="6262560" y="6093000"/>
            <a:chExt cx="935280" cy="431280"/>
          </a:xfrm>
        </p:grpSpPr>
        <p:sp>
          <p:nvSpPr>
            <p:cNvPr id="365" name=""/>
            <p:cNvSpPr/>
            <p:nvPr/>
          </p:nvSpPr>
          <p:spPr>
            <a:xfrm>
              <a:off x="6262560" y="6093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97840" y="6093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62560" y="6308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94560" y="6308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261120" y="6453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∧┐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08760" y="34336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MS Gothic"/>
              </a:rPr>
              <a:t>析取三段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35160" y="4029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拒取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55040" y="5324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析取三段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05120" y="5589720"/>
            <a:ext cx="1655640" cy="503280"/>
          </a:xfrm>
          <a:prstGeom prst="cloudCallout">
            <a:avLst>
              <a:gd name="adj1" fmla="val 148847"/>
              <a:gd name="adj2" fmla="val 2318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附加前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88640" y="59720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合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B57-8003-4A86-B8F5-88C65178975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1051E-C259-41F1-A9BF-75BF0BFE94C8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4000" y="1052640"/>
            <a:ext cx="85341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证明：用归谬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       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结论否定引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⑥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∧q)        ④ ⑤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拒取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∨s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⑦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∨┐q       ⑥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   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⑧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④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            ② ③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析取三段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⑨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                 ⑦⑧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析取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⑤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∧q) →r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⑩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∧┐q           ①⑨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合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0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，故原推理正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5840" y="4149720"/>
            <a:ext cx="8534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直接证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①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∨s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⑤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∧q)         ③ ④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拒取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②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     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⑥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∨┐q       ⑤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③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析取三段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⑦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④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∧q) →r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前提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⑧ 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                ⑥ ⑦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析取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49A-389F-4003-90F7-A6F60681774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BB2F8-D09B-4237-846D-058B7E6AF146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885960"/>
            <a:ext cx="85327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推理是指从一些已知的命题公式（称为前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推理规则推演出另一些命题公式（称为结论）的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.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…, 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命题公式，若对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…, 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出现的命题变项的任一组赋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要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∧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∧…∧A</a:t>
            </a:r>
            <a:r>
              <a:rPr b="1" i="1" lang="zh-CN" sz="2400" spc="-1" strike="noStrike" baseline="-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要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∧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∧…∧A</a:t>
            </a:r>
            <a:r>
              <a:rPr b="1" i="1" lang="zh-CN" sz="2400" spc="-1" strike="noStrike" baseline="-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真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也为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称由前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…, 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推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推理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效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或正确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并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有效的结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推理的形式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3645000"/>
            <a:ext cx="5977080" cy="718920"/>
          </a:xfrm>
          <a:prstGeom prst="cloudCallout">
            <a:avLst>
              <a:gd name="adj1" fmla="val 21314"/>
              <a:gd name="adj2" fmla="val -11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A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∧A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∧…∧A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永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860640"/>
            <a:ext cx="8820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由前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…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推结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推理是否正确与诸前提的排列次序无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一个推理诸前提的集合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推出结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推理记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Г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若该推理是正确的，则记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B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Г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否则记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Г⊭ 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Г⇏B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Г├ B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{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…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}├ 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推理的形式结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E8B-718B-4F0C-A14B-24812EDB5F7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14C40-2FB3-4A22-9788-7C6F1DAC09B0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920" y="988920"/>
            <a:ext cx="882000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命题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命题变项。对于任一组赋值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2,…, 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提和结论的取值情况有如下四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… ∧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… ∧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… ∧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∧… ∧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96000" y="2492280"/>
          <a:ext cx="42480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2492280"/>
                    <a:ext cx="42480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4440240"/>
            <a:ext cx="9144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照定义，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只要不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，推理就是正确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因而判断一个推理正确与否，只需判断是否会出现情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342900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280" y="5375160"/>
            <a:ext cx="8893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推理正确，并不能保证结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定为真。因为前提可能是假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情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B62-98FF-4D05-BFF8-30B78432CFE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8A6EF-DA91-4A5B-8A67-A5BB6BD1484F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914400"/>
            <a:ext cx="82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断下列推理是否正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, p→q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}├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, q→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}├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用真值表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76360" y="2565360"/>
          <a:ext cx="6095880" cy="1976400"/>
        </p:xfrm>
        <a:graphic>
          <a:graphicData uri="http://schemas.openxmlformats.org/drawingml/2006/table">
            <a:tbl>
              <a:tblPr/>
              <a:tblGrid>
                <a:gridCol w="1577880"/>
                <a:gridCol w="2079720"/>
                <a:gridCol w="243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  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∧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→q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∧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→p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>
                      <a:noFill/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   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>
                      <a:noFill/>
                    </a:lnR>
                    <a:lnT w="5760">
                      <a:solidFill>
                        <a:srgbClr val="ff7c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 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7c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7c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7c80"/>
                      </a:solidFill>
                    </a:lnR>
                    <a:lnT>
                      <a:noFill/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>
                      <a:noFill/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80880" y="4495680"/>
            <a:ext cx="85345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真值表可见，没有出现前提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→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真，结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为假的情况，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, p→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在赋值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时，出现了前提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→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真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</a:rPr>
              <a:t>为假的情况，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,q→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MS PGothic"/>
              </a:rPr>
              <a:t>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9720" y="29973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  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5480" y="335772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37880" y="29973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37880" y="33577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5480" y="375300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37880" y="37893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 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5480" y="414972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37880" y="41497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2EA-91B2-4DA6-8245-72BC6C5CEA4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B9598-F379-4229-B515-07E129A9B581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907920"/>
            <a:ext cx="8424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题公式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…,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推理正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{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…,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}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╞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MS PGothic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当且仅当</a:t>
            </a:r>
            <a:r>
              <a:rPr b="1" lang="zh-CN" sz="2400" spc="-1" strike="noStrike">
                <a:solidFill>
                  <a:srgbClr val="ff0000"/>
                </a:solidFill>
                <a:latin typeface="MS PGothic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→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重言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证明 见教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该定理，推理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式结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{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…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}┣B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用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∧…∧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→B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734080"/>
            <a:ext cx="76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推理是否正确的三种直接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真值表法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等值演算法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主析取范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292640"/>
            <a:ext cx="804384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写成  前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…,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然后论证推理是否正确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28880" y="3835440"/>
            <a:ext cx="5916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同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{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…,A</a:t>
            </a:r>
            <a:r>
              <a:rPr b="1" lang="zh-CN" sz="2400" spc="-1" strike="noStrike" baseline="-30000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}╞ B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换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∧A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∧…∧A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06E-EC3A-484E-9650-3B7D0FF9EAC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85973-DCD7-49E1-B8C6-B8437F9D60E3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4000" y="1025640"/>
            <a:ext cx="883908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能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整除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能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整除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能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整除，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能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</a:rPr>
              <a:t>整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  <a:ea typeface="宋体"/>
              </a:rPr>
              <a:t>下午马芳或去看电影或去游泳。她没去看电影，所以她去游泳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  <a:ea typeface="宋体"/>
              </a:rPr>
              <a:t>若下午气温超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MS PGothic"/>
                <a:ea typeface="宋体"/>
              </a:rPr>
              <a:t>，则王小燕必去游泳。若她去游泳，她就不去看电影了。所以，若王小燕没去看电影，下午气温必超过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除；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Gothic"/>
                <a:ea typeface="宋体"/>
              </a:rPr>
              <a:t>结论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Gothic"/>
                <a:ea typeface="宋体"/>
              </a:rPr>
              <a:t>推理的形式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p→q)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知道此推理正确，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p→q)</a:t>
            </a:r>
            <a:r>
              <a:rPr b="1" lang="zh-CN" sz="24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260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判断下列推理是否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080-029B-450C-B326-575D43FEE9F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B6169-89C6-47CC-A34D-B26E3CA69075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981000"/>
            <a:ext cx="853416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2)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马芳下午去看电影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马芳下午去游泳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p∨q, ┐p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结论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推理的形式结构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(p∨q)∧┐p)→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用等值演算来检验该蕴含式是否为重言式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(p∨q)∧┐p)→q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┐((p∨q)∧┐p)∨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┐p∧┐q)∨p)∨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(┐p∨p)∧(┐q∨p))∨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┐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q∨p∨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可见</a:t>
            </a:r>
            <a:r>
              <a:rPr b="1" lang="zh-CN" sz="2200" spc="-1" strike="noStrike">
                <a:solidFill>
                  <a:srgbClr val="000000"/>
                </a:solidFill>
                <a:latin typeface="MS Gothic"/>
              </a:rPr>
              <a:t>(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p∨q)∧┐p)→q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重言式，故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p∨q)∧┐p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q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推理正确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1D1-F0D3-4607-ACF9-631E6B28DD8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BDAA7-B6D8-4357-A3B3-8C60455E8CA5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280" y="907920"/>
            <a:ext cx="896472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午超过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王小燕去游泳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王小燕去看电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提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→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结论：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→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推理形式结构：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∧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→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))→(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→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我们用主析取式法检验该蕴含式是否为重言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→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∧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→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))→(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→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(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∨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∧(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∨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∨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∧┐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∨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∧ r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)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∨r∨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两次吸收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∧┐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)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)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)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    ∨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(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∧┐q∧r)∨(┐p∧q∧r)∨(p∧┐q∧r)∨(p∧q∧r)  (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用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11(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∨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见，主析取范式中少两个极小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MS Gothic"/>
                <a:ea typeface="宋体"/>
              </a:rPr>
              <a:t>，从而推理不正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085-9C80-4012-AA49-CD04AE8CD79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12C21-C4F3-4875-AAC4-52AD3F9F4BC7}" type="datetime8">
              <a:rPr lang="en-US"/>
              <a:t>07/31/26 17:16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User</cp:lastModifiedBy>
  <dcterms:modified xsi:type="dcterms:W3CDTF">2012-03-19T02:16:05Z</dcterms:modified>
  <cp:revision>280</cp:revision>
  <dc:subject>ch3</dc:subject>
  <dc:title>discrete Math</dc:title>
</cp:coreProperties>
</file>